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163E9A-F2D7-459F-BAF7-DE6BC5EF7C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E51679-597D-423F-827C-5A4F537491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easure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freq vocab and concept voc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VT later in cou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DB5158-FF0F-4BCC-84E2-19BD772140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1D5ECD-CF24-49FE-BFFE-CF60C69D99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llables- part of a word that contains a vowel or vowel s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sets &amp; Rimes-initial consonant or cluster followed by vowel /spelling patt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nemes- smallest bit of sound with a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ssessm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2A29F1-2F3E-4070-8823-4ACF57DB99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what principles of the Core Measures Get at these descriptors and which do no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696D57-EFEC-47A7-87AC-51D9445E28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this? I like drinking lemonade with ice in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as needed to decip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4370BA-8A32-4E8C-9EEC-6AD7ACDD72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ment 1- Response from research: oral language develops naturally from birth; however, not all children will learn to read without proper instruction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Lyon, 1998; Pressley, 2006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ment 2 Response from research: Although dyslexia is influenced by genetics, most children with dyslexia can learn to read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Fletcher, Lyon, Fuchs, &amp; Barnes, 2007; Olson, 2006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hat needs attention in reading that isn’t necessary in speech: concept of letter vs word, directionality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hat Assessments are used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EB2252-B832-447B-8FF2-D029649815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easu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 and T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pages 250-257 Jigsaw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A6D566-F914-4D1F-942F-A1E3BEBBA0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next slide for in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D69FE2-7A93-4AD0-BCBD-ED51C71FAD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B9E9-2528-4373-BE75-88BCC0B4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28AE-5DBE-4D9C-B200-CB9A23D1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4D87-956E-4CA0-8C21-39E10359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1B16-4842-44FC-83E2-3773FC56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F12B-3443-4673-9378-2C326C22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42C2-0C25-462B-8AE3-888ACA48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19C6-0C99-42C1-87D3-89AA581D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A260-C1BD-41C1-9F84-1A442419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8B9E-AF3F-4901-A494-6C0E3706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C2C1-DD47-4546-908A-88E08F44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4DB3-F87B-44D9-881B-47209B0F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62A4-321F-4ED3-B8CA-98E7D832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CFC7DC-4DAE-4D8D-8BCD-9DDE824681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AD0C4D-3231-4355-9E03-D7DDE924F6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DG 56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um in 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ss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oundations of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617840" y="7632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539640" y="762120"/>
            <a:ext cx="82105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2.  Vocabulary and Background 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5" descr="santa cruz home visits 052.jpg"/>
          <p:cNvPicPr/>
          <p:nvPr/>
        </p:nvPicPr>
        <p:blipFill>
          <a:blip r:embed="rId1"/>
          <a:stretch/>
        </p:blipFill>
        <p:spPr>
          <a:xfrm>
            <a:off x="3008160" y="3583080"/>
            <a:ext cx="312264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12840" y="452520"/>
            <a:ext cx="862308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tatement 3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onfusions About Print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CAP)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are usually cleared up with a strong Kindergarten experience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tle 1"/>
          <p:cNvSpPr/>
          <p:nvPr/>
        </p:nvSpPr>
        <p:spPr>
          <a:xfrm>
            <a:off x="1982880" y="1285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santa cruz home visits 058.jpg"/>
          <p:cNvPicPr/>
          <p:nvPr/>
        </p:nvPicPr>
        <p:blipFill>
          <a:blip r:embed="rId1"/>
          <a:stretch/>
        </p:blipFill>
        <p:spPr>
          <a:xfrm>
            <a:off x="2957400" y="3681360"/>
            <a:ext cx="3594240" cy="26956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660240" y="998640"/>
            <a:ext cx="79502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c0504d"/>
                </a:solidFill>
                <a:latin typeface="Calibri"/>
              </a:rPr>
              <a:t>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  <a:ea typeface="ヒラギノ角ゴ Pro W3"/>
              </a:rPr>
              <a:t>3.  Book and Print Concep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192240" y="352440"/>
            <a:ext cx="895176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tatement 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Rank the concepts about words from easiest to hardes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Onsets &amp; rimes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yllables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honem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2520" y="990720"/>
            <a:ext cx="836748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4. Phonological Awareness: sound awareness, rhyming, allit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le 1"/>
          <p:cNvSpPr/>
          <p:nvPr/>
        </p:nvSpPr>
        <p:spPr>
          <a:xfrm>
            <a:off x="1512720" y="763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santa cruz home visits 007.jpg"/>
          <p:cNvPicPr/>
          <p:nvPr/>
        </p:nvPicPr>
        <p:blipFill>
          <a:blip r:embed="rId1"/>
          <a:stretch/>
        </p:blipFill>
        <p:spPr>
          <a:xfrm>
            <a:off x="2982960" y="4165560"/>
            <a:ext cx="318132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225360" y="417600"/>
            <a:ext cx="883116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tatement 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hildren learn upper case letters first and the most well known letter to most children is the letter that starts their name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rue or Fals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47760" y="885960"/>
            <a:ext cx="8507160" cy="21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5. Alphabetic Princi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            </a:t>
            </a: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letter, sound awar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1565280" y="763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sign in bloomigton"/>
          <p:cNvPicPr/>
          <p:nvPr/>
        </p:nvPicPr>
        <p:blipFill>
          <a:blip r:embed="rId1"/>
          <a:stretch/>
        </p:blipFill>
        <p:spPr>
          <a:xfrm>
            <a:off x="2627280" y="3973680"/>
            <a:ext cx="366732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304920" y="-43920"/>
            <a:ext cx="883908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redictors of Success in Read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Understanding the relationship between letters and soun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Letter knowledge and phonological awaren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he size of a child’s vocabul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xpressive langu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eing read to alou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articipating in interactive read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he ability to write his/her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venting Reading Difficulties in Young Children 19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ndbook of Early Literacy Research 20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522360" y="260280"/>
            <a:ext cx="7985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ssessments Can We Use to Determine Proficiency for Emergent Literac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view pg 288-3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igsaw find one area of emergent literacy and an assessment that you use or can read abo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192240" y="417600"/>
            <a:ext cx="8847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Dominie Reading and Writin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Primary Assessment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ntence Writing and Spellin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elling Inventor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ventory of  Letter Knowled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sets &amp; Rim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e Reading Word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ow Me Book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xt Rea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6896160" y="5005440"/>
            <a:ext cx="16063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3520" y="380880"/>
            <a:ext cx="83818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IL  IKED  RINK  IN  GLEM  ON  A  DEW  IT HICE  INI 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192240" y="814320"/>
            <a:ext cx="8829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st of Language Development (TOLD) Test of Language Development – Primary Pre-Kindergarten through fourth grad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n individually administered language battery. Ages: 4-0 through 8-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ministration Time: 1 hour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has 9 subtests that measure different components of spoken languag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icture Vocabular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Understanding words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Seman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lational Vocabular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Mediating vocabular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Seman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ral Vocabular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Defining word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Semantic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ammatic Understanding  Sentence meaning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Syntax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ammatic Comple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Sentence forma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Syntax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ntence Imita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Repeating sentence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Syntax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ord Discrimina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Noticing sound differenc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Phon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honemic Analysis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Segmenting word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Phon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ord Articula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Saying words correctl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Phonolog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279360" y="552600"/>
            <a:ext cx="8585280" cy="57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1547640" y="81000"/>
            <a:ext cx="582804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098800" y="0"/>
            <a:ext cx="524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5522760" y="1442880"/>
            <a:ext cx="3516480" cy="287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139680" y="112680"/>
            <a:ext cx="536904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324000" y="122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Calibri"/>
              </a:rPr>
              <a:t>Framework A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1000" spc="-1" strike="noStrike">
                <a:solidFill>
                  <a:srgbClr val="800080"/>
                </a:solidFill>
                <a:latin typeface="Calibri"/>
              </a:rPr>
              <a:t>(SEDL, 2008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5342040" y="1617840"/>
            <a:ext cx="3830400" cy="4140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324000" y="1189080"/>
            <a:ext cx="4895640" cy="49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ral Language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honolog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the sounds of the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including gramm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emantic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including word knowledge/vocabul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inguistic knowled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the ability to put together or understand proper senten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ackground knowledge + linguistic knowled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anguage comprehension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523800" y="44280"/>
            <a:ext cx="760104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Framework A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 </a:t>
            </a:r>
            <a:br>
              <a:rPr sz="3600"/>
            </a:b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(SEDL, 2008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55440" y="1646280"/>
            <a:ext cx="3651480" cy="40813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3635280" y="835200"/>
            <a:ext cx="5289480" cy="57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Written Langu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oncepts about prin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child’s knowledge of form and purpose of written tex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honeme awarenes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ability to manipulate sounds in languag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lphabetic princip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letters and letter combinations represent sou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tter knowled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letter appearance and sou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xical knowled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knowledge of printed word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ipher knowled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understanding the rules for writing and spel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Decoding skill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break sentences into words and units of mea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97000" y="254160"/>
          <a:ext cx="8550000" cy="6075360"/>
        </p:xfrm>
        <a:graphic>
          <a:graphicData uri="http://schemas.openxmlformats.org/drawingml/2006/table">
            <a:tbl>
              <a:tblPr/>
              <a:tblGrid>
                <a:gridCol w="4275000"/>
                <a:gridCol w="4275000"/>
              </a:tblGrid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i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28760" y="152280"/>
            <a:ext cx="832320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Statement 1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5400" spc="-1" strike="noStrike">
                <a:solidFill>
                  <a:srgbClr val="000000"/>
                </a:solidFill>
                <a:latin typeface="Calibri"/>
              </a:rPr>
              <a:t>Learning to read, like learning to talk, is a natural proces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5400" spc="-1" strike="noStrike">
                <a:solidFill>
                  <a:srgbClr val="000000"/>
                </a:solidFill>
                <a:latin typeface="Calibri"/>
              </a:rPr>
              <a:t>True or False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1600200" y="19836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92200" y="1036800"/>
            <a:ext cx="8053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Arial"/>
              </a:rPr>
              <a:t>1.  Discourse/Conversation/ Compreh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3" descr=""/>
          <p:cNvPicPr/>
          <p:nvPr/>
        </p:nvPicPr>
        <p:blipFill>
          <a:blip r:embed="rId1"/>
          <a:stretch/>
        </p:blipFill>
        <p:spPr>
          <a:xfrm>
            <a:off x="2765520" y="3649680"/>
            <a:ext cx="3230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274680" y="520560"/>
            <a:ext cx="85392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Statement 2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Vocabulary is important to early reading and gaps exist across race, gender and economic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47600" y="324000"/>
            <a:ext cx="8871120" cy="60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4T16:10:15Z</dcterms:created>
  <dc:creator>Rafferty Michael</dc:creator>
  <dc:description/>
  <dc:language>en-US</dc:language>
  <cp:lastModifiedBy>Rafferty Michael</cp:lastModifiedBy>
  <cp:lastPrinted>2010-09-08T13:27:38Z</cp:lastPrinted>
  <dcterms:modified xsi:type="dcterms:W3CDTF">2010-09-08T17:53:28Z</dcterms:modified>
  <cp:revision>54</cp:revision>
  <dc:subject/>
  <dc:title>RDG 568 Practicum in Reading</dc:title>
</cp:coreProperties>
</file>